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6BC-3AAD-4C3A-9A6C-DCE86935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60F-CC34-48E8-B5D1-2D7AE85D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3F9-0E60-4125-9097-223353C4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7B5-BA2E-4CFA-8D9C-FB3F0198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855-A271-40A4-A86B-5E43BA58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F44-8BA6-44AE-AAC7-364C0CEF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77F-E861-45B2-9E65-AFBB4872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086-4D02-4AE5-9DC0-27874EEB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D40-F089-41D1-9C25-B263AE19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1060-12DB-47FC-92B1-BAFE4D5C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770-E1C2-440A-8529-C8A0D8CE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DB9-722F-4FA2-952D-FBC5088A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C39C-103A-4661-B461-A54AB80A8B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TextBox 5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7F033C5C-8805-4B8E-976A-8355BC93E38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28760" y="2133720"/>
            <a:ext cx="8429400" cy="26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. 21.11: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λεγον∙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ὐτ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στιν ὁ προφητης Ἰησ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were saying: '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prophe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. 14.1: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κεινῳ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τῳ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ρῳ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ἠκουσ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Ἡρῳδη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ime Herod heard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905120" y="117324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9.2.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λλος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λληλος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03120" y="2000160"/>
            <a:ext cx="850104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λλος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other) 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λληλος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one another) both decline like 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κειν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4.36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ἄλλ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πλοια ἠν μετ’ αὐτ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oats were with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4.4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λεγον προ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λληλ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And they were saying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one anot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3EC085EC-BB4E-4739-BEB7-D71F2F999D3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F158D2F8-28B2-42A2-B42B-C187FFF7EF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428920" y="1123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9.3.1 Pronou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7200" y="1790640"/>
          <a:ext cx="8786880" cy="3353040"/>
        </p:xfrm>
        <a:graphic>
          <a:graphicData uri="http://schemas.openxmlformats.org/drawingml/2006/table">
            <a:tbl>
              <a:tblPr/>
              <a:tblGrid>
                <a:gridCol w="900360"/>
                <a:gridCol w="1290600"/>
                <a:gridCol w="1461960"/>
                <a:gridCol w="1116000"/>
                <a:gridCol w="1031760"/>
                <a:gridCol w="939960"/>
                <a:gridCol w="1101600"/>
                <a:gridCol w="944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ἡμ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ὑμ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μ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ἡμ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ὑμ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μου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μ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me, 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ἡμ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us, 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you, 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ὑμ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μο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/for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ἡμ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/for 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/for 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ὑμ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273"/>
          <p:cNvSpPr/>
          <p:nvPr/>
        </p:nvSpPr>
        <p:spPr>
          <a:xfrm>
            <a:off x="357120" y="5357880"/>
            <a:ext cx="8229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υομ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self means 'we untie'. There is no need for a word for 'we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428760" y="1773360"/>
            <a:ext cx="824868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l. 5.2: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Greek"/>
                <a:ea typeface="Times New Roman"/>
              </a:rPr>
              <a:t>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γω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Παυλος λεγω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ὑμ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aul tel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hn 12.27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σωσο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κ της ὡρας ταυτη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Sa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rom this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hn 21.17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εγει αὐτῳ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Φιλει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; ..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λεγ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αὐτῳ∙ Κυριε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..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υ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γινωσκεις ὁτι φιλω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he said … 'Do you lo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' … and he said to him, 'Lord …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now that I lo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'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5985528F-5FFD-4993-A8B1-57A18A7F688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5FF8AB40-55E1-454F-86CA-AF789ECD57A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752480" y="1752480"/>
            <a:ext cx="5639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9.3.2 Reflexive Pronoun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971800"/>
          <a:ext cx="6705360" cy="2011320"/>
        </p:xfrm>
        <a:graphic>
          <a:graphicData uri="http://schemas.openxmlformats.org/drawingml/2006/table">
            <a:tbl>
              <a:tblPr/>
              <a:tblGrid>
                <a:gridCol w="2347920"/>
                <a:gridCol w="43574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μαυτο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lines like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ὐτο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self (sing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εαυτο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lines like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ὐτο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rsel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 use 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ἑαυ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selves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 use 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ἑαυ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866960" y="1428840"/>
            <a:ext cx="541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9.3.3 Possessive Adjective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" y="2286000"/>
            <a:ext cx="77724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commonly by us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genitive of the personal pronouns -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σ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ἡμ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ὑμ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of me, of you, of us, of you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, in the singular you can use a special ad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928960" y="4786200"/>
          <a:ext cx="3090960" cy="1006560"/>
        </p:xfrm>
        <a:graphic>
          <a:graphicData uri="http://schemas.openxmlformats.org/drawingml/2006/table">
            <a:tbl>
              <a:tblPr/>
              <a:tblGrid>
                <a:gridCol w="2168640"/>
                <a:gridCol w="9223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μο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(sing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Box 4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52DF2231-4F57-455F-B7AA-16D9B82BF05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57D4AA9F-3353-41FB-94F7-BF477BA07F6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00040" y="3500280"/>
            <a:ext cx="792972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hn 10.26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κ ἐστε ἐκ των προβατων τω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μ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ou are not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heep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20.28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κυριο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ου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αι ὁ θεο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ord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G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90720" y="1357200"/>
            <a:ext cx="7138800" cy="1899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'My words' i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ἱ λογου μ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not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ογοι μ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ompare: 'his words'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ἱ λογοι αὐτ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) 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μ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σ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ἡμ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σ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ὑμω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 need the arti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40049789-B632-43A5-8A86-1489F50383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324160" y="1595520"/>
            <a:ext cx="4495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9.4.1 Timid words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71520" y="2814480"/>
            <a:ext cx="6572160" cy="2235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ρα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 the one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γα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cause / fo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ν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δ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not come as the first wo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6E850317-77E3-47AC-B779-2FEF5AAD776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04920" y="2556000"/>
            <a:ext cx="861048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 3.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πολλου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γαρ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θεραπευσ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eca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le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Thes. 2.20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ὑμει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γαρ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στε ἡ δοξα ἡμων και ἡ χαρ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eca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you are our glory and joy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2142720" y="2490840"/>
            <a:ext cx="1667160" cy="223920"/>
            <a:chOff x="2142720" y="2490840"/>
            <a:chExt cx="1667160" cy="223920"/>
          </a:xfrm>
        </p:grpSpPr>
        <p:sp>
          <p:nvSpPr>
            <p:cNvPr id="151" name="Line 5"/>
            <p:cNvSpPr/>
            <p:nvPr/>
          </p:nvSpPr>
          <p:spPr>
            <a:xfrm flipH="1">
              <a:off x="2976120" y="2490840"/>
              <a:ext cx="83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"/>
            <p:cNvSpPr/>
            <p:nvPr/>
          </p:nvSpPr>
          <p:spPr>
            <a:xfrm flipH="1">
              <a:off x="2142720" y="2490840"/>
              <a:ext cx="83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2143080" y="249084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 flipV="1">
              <a:off x="3809880" y="2490840"/>
              <a:ext cx="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9"/>
          <p:cNvSpPr/>
          <p:nvPr/>
        </p:nvSpPr>
        <p:spPr>
          <a:xfrm>
            <a:off x="304920" y="1946160"/>
            <a:ext cx="32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7D7BA270-EC9D-4AA5-8BDA-C8564527160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86000" y="1357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9.4.2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μεν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57200" y="2143080"/>
            <a:ext cx="762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ecede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order to express contr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57120" y="3000240"/>
            <a:ext cx="830592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ογιζεσθε ἑαυτους εἰν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νεκρου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ῃ ἁμαρτιᾳ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ζωντα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m 6.1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consider yourselves to be (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n the o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dead to sin but (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ne the other h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alive 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d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4786200" y="3670200"/>
            <a:ext cx="1643040" cy="214560"/>
            <a:chOff x="4786200" y="3670200"/>
            <a:chExt cx="1643040" cy="214560"/>
          </a:xfrm>
        </p:grpSpPr>
        <p:sp>
          <p:nvSpPr>
            <p:cNvPr id="162" name="Line 7"/>
            <p:cNvSpPr/>
            <p:nvPr/>
          </p:nvSpPr>
          <p:spPr>
            <a:xfrm flipH="1">
              <a:off x="5607720" y="3670200"/>
              <a:ext cx="82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"/>
            <p:cNvSpPr/>
            <p:nvPr/>
          </p:nvSpPr>
          <p:spPr>
            <a:xfrm flipH="1">
              <a:off x="4786200" y="3670200"/>
              <a:ext cx="82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786200" y="3670200"/>
              <a:ext cx="0" cy="21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 flipV="1">
              <a:off x="6429240" y="3670200"/>
              <a:ext cx="0" cy="21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1271160" y="4348080"/>
            <a:ext cx="1371960" cy="152640"/>
            <a:chOff x="1271160" y="4348080"/>
            <a:chExt cx="1371960" cy="152640"/>
          </a:xfrm>
        </p:grpSpPr>
        <p:sp>
          <p:nvSpPr>
            <p:cNvPr id="167" name="Line 12"/>
            <p:cNvSpPr/>
            <p:nvPr/>
          </p:nvSpPr>
          <p:spPr>
            <a:xfrm flipH="1">
              <a:off x="1956960" y="43480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 flipH="1">
              <a:off x="1271160" y="43480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1271520" y="434808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 flipV="1">
              <a:off x="2643120" y="434808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39760" y="1414440"/>
            <a:ext cx="8648640" cy="43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Cor. 1.12: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ἑκαστος ὑμων λεγει∙ Ἐγω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εἰμι Παυλου, ἐγω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’Απολλω, ἐγω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ηφα, ἐγω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Χριστ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Each of you says, 'I am Paul's, I am Apollos', I a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phas', I am Christ's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Acts 14.4: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.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ἠσαν συν τοις Ἰουδαιοις,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συ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 τοις ἀποστολοι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ere with the Jews bu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th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ere with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ostle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376F4884-F813-41AD-914F-B7E107C41EA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743200" y="10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.1.1 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46200" y="2035080"/>
          <a:ext cx="7854840" cy="4108680"/>
        </p:xfrm>
        <a:graphic>
          <a:graphicData uri="http://schemas.openxmlformats.org/drawingml/2006/table">
            <a:tbl>
              <a:tblPr/>
              <a:tblGrid>
                <a:gridCol w="1166760"/>
                <a:gridCol w="1127160"/>
                <a:gridCol w="2012760"/>
                <a:gridCol w="1890720"/>
                <a:gridCol w="165744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κειν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202"/>
          <p:cNvSpPr/>
          <p:nvPr/>
        </p:nvSpPr>
        <p:spPr>
          <a:xfrm>
            <a:off x="928800" y="1428840"/>
            <a:ext cx="160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κειν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45DB6417-0AEF-4031-AEB0-1BDFEE50475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EEE23FCA-F301-4CB5-BB13-E73E71A20AE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981080" y="12142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9.4.3 Use of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23960" y="1857240"/>
            <a:ext cx="769608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δε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weak ‘but’, wherea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λλ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resses 'but' more strongly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lso used just with the article (e.g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δ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point out that the subject has change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 6.37-38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εγουσιν αὐτῳ ...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 δ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λεγει αὐτοις,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     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Ποσους ἀρτους ἐχε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They said to him ..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e sa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them, 'How many loaves of brea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do you have?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2666880" y="11430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.4.4 Use of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και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85840" y="1614600"/>
            <a:ext cx="878688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rmally means 'and', but can also be used to give emphasis, equivalent to 'also' or 'even'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τε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often followed by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iving the meaning 'both … and'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2.28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υριος ἐστιν ὁ υἱος του ἀνθρωπου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κα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ου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       σαββατ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on of man is lor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v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ver the Sabb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s 1.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(ὡν) ἠρξατο ὁ Ἰησους ποιει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κα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διδασκε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hich) Jesus bega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d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tea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2AC7F9BA-1998-4C62-946B-A64AC201EB4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857160" y="1400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ὑτ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9720" y="1963800"/>
          <a:ext cx="7305480" cy="4108320"/>
        </p:xfrm>
        <a:graphic>
          <a:graphicData uri="http://schemas.openxmlformats.org/drawingml/2006/table">
            <a:tbl>
              <a:tblPr/>
              <a:tblGrid>
                <a:gridCol w="1104840"/>
                <a:gridCol w="1068480"/>
                <a:gridCol w="1904760"/>
                <a:gridCol w="1791000"/>
                <a:gridCol w="1436400"/>
              </a:tblGrid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αὑ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υτ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υτ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υτ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αὑ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αυ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υτ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αυ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υτ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04E813DD-7C7D-4B9A-BDE1-805A9CBC6F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57120" y="1179360"/>
            <a:ext cx="857268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ndings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actually the same as for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gins with a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most of its forms; rough breathing in the nom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sc. and fem., sing. and plural, the same as in the 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rst vowel fluctuates between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it matches the second vowel.  If the second vowel has an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ound, the first vowel i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but if it has an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ound, it i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28800" y="4238640"/>
            <a:ext cx="7277040" cy="235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, what is important is simply to be able to recognise the forms of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Greek. This is relatively easy, but watch for the forms without the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τ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0279E739-CD14-4BE7-845B-6A4198C6761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790640" y="194940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1.2 Us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000080" y="2635200"/>
            <a:ext cx="7429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Use as pronou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βλεψα ἐκειν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 saw those (peopl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ρξεται ταυτ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He will begin these th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37AD8326-E036-45A5-A5FC-46021635713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29B6C61F-4290-4D8D-BB02-C525701D3D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90720" y="1500120"/>
            <a:ext cx="7162560" cy="45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Use as adjectiv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 article must always be used in addition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) They are placed in the predicative word orde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English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br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ree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ἀδελφο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is the broth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λ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line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αθ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it is used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.e. it comes before the articl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hole crowd 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λος ὁ ὀχλ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ὁλος ὀχλ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447920" y="1214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.1 Further use of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33280" y="2168640"/>
            <a:ext cx="891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αὐτ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used as an adjectiv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jective meaning 'sam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 attributive position (between article and no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phatic adjective (himself, herself, itself, themsel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ing before the article (predicative position) 'for emphasis'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C6D532E3-6C62-4AEC-AEFC-10BFAF88F2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2CFF7858-A7FE-4EE2-A0FF-A460858CD4A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14200" y="1643040"/>
            <a:ext cx="864396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εγω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ὐτῃ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 am speaking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ἱ μαθητ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ὐτου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λεγ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sciples s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ὐτο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κυριος σωζει τον λα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or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s th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ὐτο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ὁ κυριος σωζει τον λα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he Lor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msel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s the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552760" y="1163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9.2.2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ἑαυ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3480" y="1781280"/>
            <a:ext cx="91440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ἑαυτ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h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erson reflexive pronoun (himself, herself, itself, themselves).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ἑαυτ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clines exactly a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κυριος σωζε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ἑαυτο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- The Lord save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im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αὐτο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ὁ κυριος σωζει τον λαο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- The Lor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imsel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aves the peo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4200480"/>
            <a:ext cx="6858000" cy="195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Hin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You can tell whether 'himself' etc. i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mphati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by deleting it. If the sentence's basic meaning is unaltered, it wa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mphatic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if not it wa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Grammar </a:t>
            </a:r>
            <a:fld id="{B46288BA-B345-47B6-A292-E11AE354F62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3:19:25Z</dcterms:created>
  <dc:creator>Sarah</dc:creator>
  <dc:description/>
  <dc:language>en-US</dc:language>
  <cp:lastModifiedBy>Sarah</cp:lastModifiedBy>
  <dcterms:modified xsi:type="dcterms:W3CDTF">2009-07-10T23:16:43Z</dcterms:modified>
  <cp:revision>70</cp:revision>
  <dc:subject/>
  <dc:title>Slide 1</dc:title>
</cp:coreProperties>
</file>